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24A-AA58-4C78-9A43-C5537842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EE3-DDF8-4496-A467-5D117207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C10-617F-419A-8BA8-54E7114B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4ED-AB59-4C22-A575-91DD8540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E703-3768-4297-8346-FD9A4FA1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15AB-4AB2-4DB7-9D34-7A1FDE7F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612F-9978-4E28-9598-E3C208CA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5AA3-A891-4511-A97D-94551A18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0F95-6FAE-4279-B5D6-15A67E01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DF9-6D02-49CD-9ACE-19C09D25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D4BE-36BE-44BC-B7F0-11FADFDF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91C-5894-4111-B069-81826B40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BCAA-1173-4F15-8616-A382377E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3A06-1227-4EC6-93D9-39DE1FBA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217C-0A6C-4DBE-906C-04ED126F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41B8-BCBB-44A2-AF6E-02EAC66B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0BC5-487D-4E25-AC62-E58FA112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BD5-1ED8-4F34-B993-18F52CDB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631-84BF-46FB-B3C9-9F17D97A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19D-48AB-4D82-B372-18693AB9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161-3CB0-41C2-BFAA-AAAA1741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805-07AD-45FA-A390-7DE16686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467-6C39-4296-A97D-923D8330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370-ECB7-4CE2-BADE-EF3EA9E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A6E5-163A-4E9E-8627-720D006BAD5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2189-270B-484A-832F-395521C275E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Extinction in the Modern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xtinction of organisms has been happening for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cientists have dated extinction of species back as far as 40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re are no known reasons for these extinctions, only theories such as asteroids crashing into earth and killing everything in its 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t one time earth was inhabited by over 500 million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Over time, 90% of these have become extinct or have evolved into other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limate change and habitat loss caused species to adapt or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 rate at which extinction is occurring has risen dramatically over the past 2 dec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umans have had the greatest impact on thes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limate change, over hunting/fishing, habitat loss, even simple mistakes such as adding a tropical fish to the hot springs in Alberta have caused species 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Why should We Worry About Species Extin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moving 1 part of an ecosystem affects all other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ts like removing a car part – the car no longer works prop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x. Overhunting of sea otters caused sea urchins to reproduce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sea urchins ate all available k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sh that relied on the kelp for food and shelter began to de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y removing 1 organism, 2 more were also negatively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What Can We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-introduce species to areas they once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otect habi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duce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2:29:56Z</dcterms:created>
  <dc:creator>nbdoe</dc:creator>
  <dc:description/>
  <dc:language>en-US</dc:language>
  <cp:lastModifiedBy>Ward, Jeffrey    (ASD-W)</cp:lastModifiedBy>
  <dcterms:modified xsi:type="dcterms:W3CDTF">2012-12-03T15:28:13Z</dcterms:modified>
  <cp:revision>5</cp:revision>
  <dc:subject/>
  <dc:title>Extinction in the Modern World</dc:title>
</cp:coreProperties>
</file>